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915D-1359-44D5-941F-71E3E11BC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E1F9-34AE-4D3C-AFB3-04ABF7727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A2C1-F3BD-4A35-A6BE-B6C6A2F79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73A8-D00A-4AA9-AF55-174071713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731B-CE38-4F5D-94EA-D8A0EDEA5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BA93-C705-4D55-9359-E33F9D1EE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DB2A-0A1C-415D-8211-4866BE807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AC16-920D-414E-B027-EA3CA6C26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7848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68A9-5FC6-4E17-9415-FB1D65935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62B2-863E-401E-A784-AF435A86F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E763-3C8D-4FA6-83E6-70CFA0EBE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D91F-FF3B-4D83-A125-B6D89BEE0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8920" y="6453000"/>
            <a:ext cx="813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88000" y="6453000"/>
            <a:ext cx="576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898E-0A87-48F3-980C-2A19D7467F17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8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 in Visual FoxPro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Christof Wollenhau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oxp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D-M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3737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taten: Visual FoxPro, Konservierungsmittel Registry, MTDLL, Geschmacksverstärker Interprocess Communication (IPC). Achtung: Kann Spuren von C++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vents: Etwas ist passiert, kann gesche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UTEX: Exklusiven Zugriff absich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ile Mapping: Gemeinsam genutzter Speicherbereich mit einem Na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d Pipe: Nachrichten (Befehl) an andere Threads oder Prozesse schi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 Realitä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Named Pipes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schwer zu te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fallsicherheit h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adlocks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s sauber herunterfah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gistrierung der MTDLL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Noch Frage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48768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51280" y="1700280"/>
            <a:ext cx="489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hristof.Wollenhaupt@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bs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sch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pmannsweg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2846 Norderst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lef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040 / 682670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ur Pers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lbständiger Entwickler in Norderstedt mit Schwerpunkt FoxP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xPro Erfahrung seit FoxPro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Certified Developer (MC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MVP 1997-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 95 Artikel im FoxPro Advis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sop im CompuServe F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mail:Christof.Wollenhaupt@foxpert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ser Vortr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ist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e geht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zu brauche ich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://www.foxpert.com/dmult.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chiede zu Proze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reateThread() API Funk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T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part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MULT.D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lfsbibliothek in Visual C++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rsh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bjektreferenzen überg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ozu, weshalb, wann nich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ngwierige Prozesse in der Oberflä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imerer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zubrechende SELECT Abfr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 im Voraus 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prüfung auf Änder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richte dru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mport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ssourcenauslastung optim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Kommunik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zessübergreifende Kommunik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Aufru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s ist wichtig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Ausfüh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lockier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end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parate Insta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munikation auf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PI Objek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n (Local\, Global\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gnalis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tefunkt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28:00Z</dcterms:created>
  <dc:creator>Christof Lange</dc:creator>
  <dc:description/>
  <dc:language>en-US</dc:language>
  <cp:lastModifiedBy>Christof</cp:lastModifiedBy>
  <dcterms:modified xsi:type="dcterms:W3CDTF">2005-11-12T08:03:14Z</dcterms:modified>
  <cp:revision>100</cp:revision>
  <dc:subject/>
  <dc:title>D-BIND</dc:title>
</cp:coreProperties>
</file>